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png" ContentType="image/png"/>
  <Override PartName="/ppt/media/image8.jpeg" ContentType="image/jpeg"/>
  <Override PartName="/ppt/media/image5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5421-9767-4A74-8997-566C1548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AD2B-CB00-4B24-960F-D8FB85A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8E31-31E5-4241-BAD4-11B56C90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CAAB-856A-48AC-8F3D-44D129FA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9DC-9396-4EBE-A40B-1275CB13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8415-CFF2-4ACC-A07B-16B85FF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B0F-AE04-4781-800E-480AAFB4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6CA8-9700-4211-9A0D-05747CB2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AB38-C23F-4545-86C1-6C90FE8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311-DCBF-4ABB-8728-268AD65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A70-2155-43DE-B98D-B9F971A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5FF9-C5A2-470A-B903-199589E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D84-D616-4F29-9C7D-8DB0EE2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39B-689B-4772-AB26-1E5F98E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A59-97E3-45C5-ABDE-D07030F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BA6D-B32B-42FE-943E-B5EBCC23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179-E787-434B-9615-9451B5B5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6B32-8367-43FB-92BB-FE8B439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EF9B-D31F-4BA4-88EB-0E21CFE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BBE7-FB6E-4FC2-8DE8-7FDB1729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C979-D560-4B7B-B9A2-F7B8B2C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CE66-73AA-4D8A-BE76-AD17C6B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0382-F542-4028-B623-84AF2FC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D68E-08A9-4C05-A335-5B2BC58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562-E1CF-49F6-8965-75C2A9CA6C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D49-64C3-4AB0-B69A-7074A31A6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upport.esri.com/geoprocessing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training.esri.com/gateway/index.cfm" TargetMode="External"/><Relationship Id="rId2" Type="http://schemas.openxmlformats.org/officeDocument/2006/relationships/hyperlink" Target="http://www.fgdc.gov/" TargetMode="External"/><Relationship Id="rId3" Type="http://schemas.openxmlformats.org/officeDocument/2006/relationships/hyperlink" Target="http://geodata.gov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560" y="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Garamond"/>
              </a:rPr>
              <a:t>Metadata for Geospatial Information Sourc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0080" y="2075040"/>
            <a:ext cx="7815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eography 387 Lab: Introduction to Geographic Information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epartment of Geography and Global Stud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noma State Univers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ovember 3 &amp; 4, 20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uest Speaker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t Stiefer, Digital Librarian &amp; Geograph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noma Ecology Cen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t@sonomaecologycenter.or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unded by the Federal Geographic Data Committee, National Spatial Data Infrastructur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operative Agreement Progr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810400" cy="6010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tyleshe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Clas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iar? Similar to the text file you imported in an earlier l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0948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14280"/>
            <a:ext cx="5791320" cy="654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ws same data as FGDC ESRI and FGDC Classic styleshe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RI Profile elements in gre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2860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re Styleshe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314280"/>
            <a:ext cx="5791320" cy="6543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RI Profile elements in gr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2860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829480" cy="37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re Styleshe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5672160" cy="5791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FA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l same metadata, but shows metadata questions hyperlinked to ans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53352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re Styleshe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FA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s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re Styleshe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5676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? To publish or otherwise share your metadata and ulitmately, your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formats, some similar to stylesheets in final appea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ML (ESRI and FG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(FG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ML (ESRI and FG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Q (FG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orting 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CSDGM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ESRI Profile elements are drop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3352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97080" y="457200"/>
            <a:ext cx="60469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CSDGM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 as FGDC text but hyperlinked sections, viewable with web brow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533520"/>
            <a:ext cx="182880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7773"/>
          <a:stretch/>
        </p:blipFill>
        <p:spPr>
          <a:xfrm>
            <a:off x="2914560" y="152280"/>
            <a:ext cx="622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6779"/>
          <a:stretch/>
        </p:blipFill>
        <p:spPr>
          <a:xfrm>
            <a:off x="3095640" y="380880"/>
            <a:ext cx="6048360" cy="6286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GDC X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RI Profile elements and enclosures are left behi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 header differs from ESRI X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9045" r="0" b="72535"/>
          <a:stretch/>
        </p:blipFill>
        <p:spPr>
          <a:xfrm>
            <a:off x="152280" y="5334120"/>
            <a:ext cx="60199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1905120" y="4495680"/>
            <a:ext cx="380880" cy="1219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57400" y="761760"/>
            <a:ext cx="3276720" cy="2895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html formats, look same as within A/C, but now stand-alone 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CSDGM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CSDGM FA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RI HTML – looks same as ESRI FGDC stylesheet, may not work in Firefox brow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es can be used in web 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few concepts related to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data for various data 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about XML files and styleshe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about exporting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iew some of ArcCatalog metadata fu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Implementation Assisst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3840" y="765000"/>
            <a:ext cx="83469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SDGM Workbook – 1-page diagram for each s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2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GDC Main Sections are in Top Row of FGDC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are grouped in tabs on Second Row of the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DENTIFICA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Section 1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810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2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GDC Main Sections are in Top Row of FGDC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are grouped in tabs on Second Row of the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TA QUALIT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Section 2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10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2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GDC Main Sections are in Top Row of FGDC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are grouped in tabs on Second Row of the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TA ORGANIZA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Section 3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104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2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GDC Main Sections are in Top Row of FGDC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are grouped in tabs on Second Row of the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NTITY ATTRIBU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Section 5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8104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FGDC Standard -  Sec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2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GDC Main Sections are in Top Row of FGDC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are grouped in tabs on Second Row of the Edi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ETADATA REFER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Section 7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104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eamlining Your Workfl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emplates -- save time and standardize cont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Enclosures -- keep detailed supplementary documentation with your GIS lay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using metadata geoprocessing mod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e red hin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ort multiple files at once export metadata using the models in the Sample Metadata Toolbox, which is available from the Geoprocessing support website a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support.esri.com/geoprocessi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 out metadata examples for ti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e ArcGIS Data and Map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GS provides good exam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Templ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6840" y="1988640"/>
            <a:ext cx="7072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dite repeated data en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 documentation and exclude proper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off automatic updates when making templ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tting Up a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67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ls|Options|Metadat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ect FGDC ESRI stylesheet, FGDC Edi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urn off automatic creation and updates for meta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for ArcGIS Data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GIS data ty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odatabases – feature datasets and featu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ster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ver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XD f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-level metadata (fold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tting Up a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ls|Options|FileTyp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ck “New Typ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ck “Import FileType From Registry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ect XML from li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13388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king a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-click on a folder in Catalog Tree, or in right pane of ArcCatalo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ick on “New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ick on XML Docu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591240" y="3124080"/>
            <a:ext cx="1562040" cy="2533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1171800" cy="1905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505320" y="3809880"/>
            <a:ext cx="1904760" cy="763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5257800"/>
            <a:ext cx="335268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king a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n new XML with metadata edit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data that will often be repeated (all contacts info, distribution info, access/use constraints, etc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ave template XML file to a separate fol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e different versions as need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2155" t="0" r="12155" b="35887"/>
          <a:stretch/>
        </p:blipFill>
        <p:spPr>
          <a:xfrm>
            <a:off x="4495680" y="1828800"/>
            <a:ext cx="44197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ing the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automatic metadata create/update back on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ls|Options|Metadat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making metadata on your next data fil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mport your template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NING: import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etadata will overwrite any existing documentation, so import template only 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tep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rest of documentation as nee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ing En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0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ernal files with more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copy is made of enclosed 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can open enclosed file with double-cl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21200" y="1992240"/>
            <a:ext cx="49165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ome Resources for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rther Learn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GIS Desktop Hel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RI Virtual Campus – metadata &amp; ArcCatalog course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training.esri.com/gateway/index.cf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websit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fgdc.g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help in implementing FGDC stand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spatial One Stop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geodata.g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search for data and publish your 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3505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GIS data ty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odatabases – feature datasets and featu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s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for ArcGIS Data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049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1990440" cy="428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24037" t="89497" r="38196" b="352"/>
          <a:stretch/>
        </p:blipFill>
        <p:spPr>
          <a:xfrm>
            <a:off x="4952880" y="34290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6476760" y="2209680"/>
            <a:ext cx="1066680" cy="15264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324480" y="3733920"/>
            <a:ext cx="1067040" cy="15228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676160" cy="952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5410080" y="5181480"/>
            <a:ext cx="1067040" cy="15264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for all Project 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335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non-spatial data (mxd, tables, folders, toolboxes and  models, VB code, script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want it found in a search? Make some metada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data for ESRI Map docu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XD – inside ArcMap/Arc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 of MX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31146" b="69698"/>
          <a:stretch/>
        </p:blipFill>
        <p:spPr>
          <a:xfrm>
            <a:off x="3886200" y="1600200"/>
            <a:ext cx="5105520" cy="226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31119"/>
          <a:stretch/>
        </p:blipFill>
        <p:spPr>
          <a:xfrm>
            <a:off x="4800600" y="3048120"/>
            <a:ext cx="231444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9480" y="2133720"/>
            <a:ext cx="346572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38480" y="1905120"/>
            <a:ext cx="1143000" cy="3276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123720" y="4419720"/>
            <a:ext cx="205740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038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XD in Arc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ick on mxd in Catalog Tree (lef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ll in Description Ta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d as xml with same name your mxd f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5715000"/>
            <a:ext cx="1762200" cy="743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26609" b="0"/>
          <a:stretch/>
        </p:blipFill>
        <p:spPr>
          <a:xfrm>
            <a:off x="4267080" y="1143000"/>
            <a:ext cx="4572000" cy="5454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data for ESRI Map docu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RI XML 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Catalog metadata behind the interface is an XML 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view through XML Stylesheet (filt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s both FGDC and ESRI Profile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s binary version of Enclos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s Preview Thumbna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of these components may NOT be retained on expo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8776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RI XML Style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202280" y="1219320"/>
            <a:ext cx="4941360" cy="5257800"/>
            <a:chOff x="4202280" y="1219320"/>
            <a:chExt cx="4941360" cy="52578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278240" y="1371600"/>
              <a:ext cx="4865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202280" y="1219320"/>
              <a:ext cx="1295280" cy="457200"/>
            </a:xfrm>
            <a:prstGeom prst="ellipse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1157400"/>
            <a:ext cx="1295280" cy="45720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IEFER</cp:lastModifiedBy>
  <dcterms:modified xsi:type="dcterms:W3CDTF">2008-11-04T05:42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