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A664-90C2-4CAD-97DD-6F3257BE5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hidden folder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e to EndNote in Application Data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file with customize version you downloa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click on Projects.e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–click on first and only record in the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cursor to Project Lead field, and use Cntl-1 to open the term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Lists Tab and press “Link Lists” bu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oll down to bottom of list.  If you see Begin Date term list linked to Access Date generic field, it’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Edit pulldown menu at the top of the page, second item from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dit Prefer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erm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ll three options to on (click bo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le Dropdown menu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as meaningful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AAAB-A344-4434-B2FE-35A815CC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60C9-0CD3-4D85-8AB7-5323A75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E9E1-B995-43DE-AE33-79F67327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38C6-A8C7-4A32-A34B-2EF8A79A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0041-16D5-4801-B174-520BF851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288-FF1B-493A-95AE-A85F82F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AFF-B992-45B6-9DC8-C854235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399B-03E3-4982-931D-B1734B6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D024-4D16-4D09-BC55-655E5B3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70C-0CB5-4048-BFFD-92FB0DF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87F4-F03F-408F-8E03-A5B1940B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1F29-2A0A-43E9-BF2F-309EB1B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EDCE-72C1-400E-81E4-E23755D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5350-6D48-4AA4-9863-A939175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215-E29C-47F0-ADFF-EAD0D14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F520-C45D-4A60-B5E9-6931A2C7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F17D-8571-4F19-9BF7-D6CCC9D8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CE1D-D4EF-4707-8D6F-3AFA9E0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6FD3-0AF8-4673-9883-0262303B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E1C2-BAE5-48B4-9966-E583099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5067-7DDE-457D-86AB-0B9A781E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F7F5-6596-4E0F-B622-CFFCBCA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DF3F-06DC-40BD-B13A-70232C6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EAE6-1AA5-4B62-87B7-581AD46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E197-5260-477C-ADFE-0C65105FB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837-0EBB-444A-9421-55C4F5C84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1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Garamond"/>
              </a:rPr>
              <a:t>Environmental Information Cataloging Workshops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1560" y="3040200"/>
            <a:ext cx="679896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Local and Networked Digital Lib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North B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g. 21, 23, and 25, 200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S Teaching Lab, 3059 Stevenson Hall, SS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r Library and the Northbay Comm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920" y="2286000"/>
            <a:ext cx="1904760" cy="609480"/>
            <a:chOff x="304920" y="2286000"/>
            <a:chExt cx="1904760" cy="609480"/>
          </a:xfrm>
        </p:grpSpPr>
        <p:sp>
          <p:nvSpPr>
            <p:cNvPr id="132" name=""/>
            <p:cNvSpPr/>
            <p:nvPr/>
          </p:nvSpPr>
          <p:spPr>
            <a:xfrm>
              <a:off x="304920" y="2286000"/>
              <a:ext cx="1828800" cy="609480"/>
            </a:xfrm>
            <a:prstGeom prst="rect">
              <a:avLst/>
            </a:prstGeom>
            <a:solidFill>
              <a:srgbClr val="87c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2362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Sourc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62720" y="2666880"/>
            <a:ext cx="3200400" cy="1828800"/>
            <a:chOff x="5562720" y="2666880"/>
            <a:chExt cx="3200400" cy="1828800"/>
          </a:xfrm>
        </p:grpSpPr>
        <p:sp>
          <p:nvSpPr>
            <p:cNvPr id="135" name=""/>
            <p:cNvSpPr/>
            <p:nvPr/>
          </p:nvSpPr>
          <p:spPr>
            <a:xfrm>
              <a:off x="5562720" y="2666880"/>
              <a:ext cx="3200400" cy="1828800"/>
            </a:xfrm>
            <a:prstGeom prst="can">
              <a:avLst>
                <a:gd name="adj" fmla="val 25000"/>
              </a:avLst>
            </a:prstGeom>
            <a:solidFill>
              <a:srgbClr val="6de49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3124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Aggregation Serv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3352680"/>
            <a:ext cx="1905120" cy="609840"/>
            <a:chOff x="228600" y="3352680"/>
            <a:chExt cx="1905120" cy="609840"/>
          </a:xfrm>
        </p:grpSpPr>
        <p:sp>
          <p:nvSpPr>
            <p:cNvPr id="138" name=""/>
            <p:cNvSpPr/>
            <p:nvPr/>
          </p:nvSpPr>
          <p:spPr>
            <a:xfrm>
              <a:off x="228600" y="3352680"/>
              <a:ext cx="1905120" cy="609840"/>
            </a:xfrm>
            <a:prstGeom prst="rect">
              <a:avLst/>
            </a:prstGeom>
            <a:solidFill>
              <a:srgbClr val="cc9a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3429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Source 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961240" y="4664160"/>
            <a:ext cx="2133360" cy="1325520"/>
            <a:chOff x="5961240" y="4664160"/>
            <a:chExt cx="2133360" cy="1325520"/>
          </a:xfrm>
        </p:grpSpPr>
        <p:sp>
          <p:nvSpPr>
            <p:cNvPr id="141" name=""/>
            <p:cNvSpPr/>
            <p:nvPr/>
          </p:nvSpPr>
          <p:spPr>
            <a:xfrm>
              <a:off x="5961240" y="4664160"/>
              <a:ext cx="2133360" cy="1325520"/>
            </a:xfrm>
            <a:prstGeom prst="rect">
              <a:avLst/>
            </a:prstGeom>
            <a:solidFill>
              <a:srgbClr val="ffe7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3160" y="466416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Access to everyone’s metadat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33720" y="2209680"/>
            <a:ext cx="1371600" cy="838440"/>
            <a:chOff x="2133720" y="2209680"/>
            <a:chExt cx="1371600" cy="838440"/>
          </a:xfrm>
        </p:grpSpPr>
        <p:sp>
          <p:nvSpPr>
            <p:cNvPr id="144" name=""/>
            <p:cNvSpPr/>
            <p:nvPr/>
          </p:nvSpPr>
          <p:spPr>
            <a:xfrm>
              <a:off x="2133720" y="2590920"/>
              <a:ext cx="380880" cy="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2209680"/>
              <a:ext cx="990720" cy="838440"/>
            </a:xfrm>
            <a:prstGeom prst="can">
              <a:avLst>
                <a:gd name="adj" fmla="val 25000"/>
              </a:avLst>
            </a:prstGeom>
            <a:solidFill>
              <a:srgbClr val="87c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720" y="3200400"/>
            <a:ext cx="1371600" cy="838080"/>
            <a:chOff x="2133720" y="3200400"/>
            <a:chExt cx="1371600" cy="838080"/>
          </a:xfrm>
        </p:grpSpPr>
        <p:sp>
          <p:nvSpPr>
            <p:cNvPr id="148" name=""/>
            <p:cNvSpPr/>
            <p:nvPr/>
          </p:nvSpPr>
          <p:spPr>
            <a:xfrm>
              <a:off x="2514600" y="3200400"/>
              <a:ext cx="990720" cy="838080"/>
            </a:xfrm>
            <a:prstGeom prst="can">
              <a:avLst>
                <a:gd name="adj" fmla="val 25000"/>
              </a:avLst>
            </a:prstGeom>
            <a:solidFill>
              <a:srgbClr val="cc9a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3429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3657600"/>
              <a:ext cx="380880" cy="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09880" y="2133720"/>
            <a:ext cx="4343400" cy="1447560"/>
            <a:chOff x="3809880" y="2133720"/>
            <a:chExt cx="4343400" cy="1447560"/>
          </a:xfrm>
        </p:grpSpPr>
        <p:sp>
          <p:nvSpPr>
            <p:cNvPr id="152" name=""/>
            <p:cNvSpPr/>
            <p:nvPr/>
          </p:nvSpPr>
          <p:spPr>
            <a:xfrm>
              <a:off x="3809880" y="2971800"/>
              <a:ext cx="1524240" cy="609480"/>
            </a:xfrm>
            <a:custGeom>
              <a:avLst/>
              <a:gdLst>
                <a:gd name="textAreaLeft" fmla="*/ 204120 w 1524240"/>
                <a:gd name="textAreaRight" fmla="*/ 1320120 w 152424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6200" y="2133720"/>
              <a:ext cx="426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a from open libraries is harves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13720" y="4191120"/>
            <a:ext cx="609480" cy="533160"/>
          </a:xfrm>
          <a:custGeom>
            <a:avLst/>
            <a:gdLst>
              <a:gd name="textAreaLeft" fmla="*/ 106560 w 609480"/>
              <a:gd name="textAreaRight" fmla="*/ 442080 w 6094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mantic We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361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y to locate resources that are connected in meaningful 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43400" y="2057400"/>
            <a:ext cx="4114800" cy="3962520"/>
            <a:chOff x="4343400" y="2057400"/>
            <a:chExt cx="4114800" cy="3962520"/>
          </a:xfrm>
        </p:grpSpPr>
        <p:sp>
          <p:nvSpPr>
            <p:cNvPr id="158" name=""/>
            <p:cNvSpPr/>
            <p:nvPr/>
          </p:nvSpPr>
          <p:spPr>
            <a:xfrm>
              <a:off x="5715000" y="2057400"/>
              <a:ext cx="1523880" cy="1523880"/>
            </a:xfrm>
            <a:prstGeom prst="ellipse">
              <a:avLst/>
            </a:prstGeom>
            <a:solidFill>
              <a:srgbClr val="cc9a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3400" y="3200400"/>
              <a:ext cx="1523880" cy="1523880"/>
            </a:xfrm>
            <a:prstGeom prst="ellipse">
              <a:avLst/>
            </a:prstGeom>
            <a:solidFill>
              <a:srgbClr val="ffe7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3276720"/>
              <a:ext cx="1523880" cy="1523880"/>
            </a:xfrm>
            <a:prstGeom prst="ellipse">
              <a:avLst/>
            </a:prstGeom>
            <a:solidFill>
              <a:srgbClr val="87c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4495680"/>
              <a:ext cx="1524240" cy="1524240"/>
            </a:xfrm>
            <a:prstGeom prst="ellipse">
              <a:avLst/>
            </a:prstGeom>
            <a:solidFill>
              <a:srgbClr val="6de49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728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eop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86600" y="380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43600" y="5029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714640" y="32767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5812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33960" y="4572000"/>
              <a:ext cx="2286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4572000"/>
              <a:ext cx="3049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1148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32767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733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Or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alog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576520"/>
            <a:ext cx="82296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No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alog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 - CE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58840" y="3254400"/>
            <a:ext cx="66200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alifornia Environmental Information Catalog (CEI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, federal, and local organizations use it to share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ner in CalEDLN, a major hub on the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/ Dublin Cor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vests many smaller sites, harvested by G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5370" t="41022" r="0" b="0"/>
          <a:stretch/>
        </p:blipFill>
        <p:spPr>
          <a:xfrm>
            <a:off x="825480" y="1106640"/>
            <a:ext cx="7491600" cy="5601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a CERES Catal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alifornia Environmental Information Catalog (CEI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54440" y="2592360"/>
            <a:ext cx="520848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54360" y="2998800"/>
            <a:ext cx="1330200" cy="290520"/>
          </a:xfrm>
          <a:prstGeom prst="ellipse">
            <a:avLst/>
          </a:prstGeom>
          <a:noFill/>
          <a:ln w="38160">
            <a:solidFill>
              <a:srgbClr val="c2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0640" y="2647800"/>
            <a:ext cx="6894720" cy="2671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07960" y="2846520"/>
            <a:ext cx="2157480" cy="11318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636800" y="4176360"/>
            <a:ext cx="1253880" cy="159228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320" y="2411280"/>
            <a:ext cx="15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91160" y="5684760"/>
            <a:ext cx="233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existing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7520" y="2166840"/>
            <a:ext cx="6931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58680" y="2452680"/>
            <a:ext cx="7442280" cy="2868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71520" y="5546880"/>
            <a:ext cx="67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your existing catalog and log in with your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art 1 - Cataloging and Sharing Non-Spatial Information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33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:00 – 12: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4840"/>
            <a:ext cx="82296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01600" y="1415880"/>
            <a:ext cx="6940800" cy="5442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H="1" flipV="1">
            <a:off x="7451280" y="2681280"/>
            <a:ext cx="428760" cy="6746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54920" y="3429000"/>
            <a:ext cx="18810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dit catalo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" y="4822920"/>
            <a:ext cx="188136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dit catalog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63680" y="4730400"/>
            <a:ext cx="1040040" cy="27612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3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entry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930400" y="1325520"/>
            <a:ext cx="59803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5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ing thesaurus keywords using the CERES Thesaurus Brow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46320" y="1660680"/>
            <a:ext cx="4824360" cy="4545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2201760" y="5551200"/>
            <a:ext cx="1040040" cy="27612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993000" y="4130640"/>
            <a:ext cx="428400" cy="6746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5675400"/>
            <a:ext cx="1881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heck se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08880" y="4848120"/>
            <a:ext cx="1881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earch for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701064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35040" y="1233360"/>
            <a:ext cx="66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ng a region using Geo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870280"/>
            <a:ext cx="82296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Try it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:30-10:45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55960" y="3076560"/>
            <a:ext cx="1235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dNote Us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ocal libra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Create and manage a database of bibliographic references (metadata) for many types of information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tworked librar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Create and export metadata for “harvest” by network aggregators (NBIC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86200" y="5232240"/>
            <a:ext cx="14526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Resou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04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 project repor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, Organiz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s/Pos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l m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741240" y="1531800"/>
            <a:ext cx="4343400" cy="708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886280" y="2084400"/>
            <a:ext cx="4114800" cy="3962520"/>
            <a:chOff x="4886280" y="2084400"/>
            <a:chExt cx="4114800" cy="3962520"/>
          </a:xfrm>
        </p:grpSpPr>
        <p:sp>
          <p:nvSpPr>
            <p:cNvPr id="231" name=""/>
            <p:cNvSpPr/>
            <p:nvPr/>
          </p:nvSpPr>
          <p:spPr>
            <a:xfrm>
              <a:off x="6257880" y="2084400"/>
              <a:ext cx="1523880" cy="1523880"/>
            </a:xfrm>
            <a:prstGeom prst="ellipse">
              <a:avLst/>
            </a:prstGeom>
            <a:solidFill>
              <a:srgbClr val="cc9a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86280" y="3227400"/>
              <a:ext cx="1523880" cy="1523880"/>
            </a:xfrm>
            <a:prstGeom prst="ellipse">
              <a:avLst/>
            </a:prstGeom>
            <a:solidFill>
              <a:srgbClr val="ffe7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7200" y="3303720"/>
              <a:ext cx="1523880" cy="1523880"/>
            </a:xfrm>
            <a:prstGeom prst="ellipse">
              <a:avLst/>
            </a:prstGeom>
            <a:solidFill>
              <a:srgbClr val="87c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522680"/>
              <a:ext cx="1524240" cy="1524240"/>
            </a:xfrm>
            <a:prstGeom prst="ellipse">
              <a:avLst/>
            </a:prstGeom>
            <a:solidFill>
              <a:srgbClr val="6de49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0160" y="2617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eop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9480" y="3836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86480" y="5056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257520" y="33037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43680" y="36082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476840" y="4599000"/>
              <a:ext cx="2286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9280" y="4599000"/>
              <a:ext cx="3049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0160" y="41418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9480" y="33037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1200" y="3760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Or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EndNote Reference Typ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64934" t="2607" r="4967" b="7492"/>
          <a:stretch/>
        </p:blipFill>
        <p:spPr>
          <a:xfrm>
            <a:off x="5248440" y="1181160"/>
            <a:ext cx="1415880" cy="5486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5003" t="2607" r="64667" b="7492"/>
          <a:stretch/>
        </p:blipFill>
        <p:spPr>
          <a:xfrm>
            <a:off x="2529000" y="1177920"/>
            <a:ext cx="1427040" cy="5486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084560" y="1319040"/>
            <a:ext cx="1035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o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/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he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stomizing EndNo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2554200"/>
            <a:ext cx="28800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actively customize Reference 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e Reference Types via X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735440" y="2571840"/>
            <a:ext cx="4038480" cy="3448080"/>
            <a:chOff x="4735440" y="2571840"/>
            <a:chExt cx="4038480" cy="344808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4735440" y="2571840"/>
              <a:ext cx="403848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006960" y="4208400"/>
              <a:ext cx="114300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886200" y="2438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510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Garamond"/>
              </a:rPr>
              <a:t>Organizing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Garamond"/>
              </a:rPr>
              <a:t>cataloging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Garamond"/>
              </a:rPr>
              <a:t>documenting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information resources for the purpose of retrieval, use, and shar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ndNote Custom Reference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EDLN Project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ing so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EDLN People and organiz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EDLN Data 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554120"/>
            <a:ext cx="6591600" cy="7160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alEDLN Standard Recor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57280" y="563400"/>
            <a:ext cx="6042240" cy="6170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751120" y="455760"/>
            <a:ext cx="1728720" cy="488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dNote Data Entry Prac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e Endnote to add CalEDLN Project reference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the sample EN library and check term list field li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it prefer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 CalEDLN Project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ort record to text 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. Customize EndNote to add CalEDLN Project Reference Typ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1680" y="1447920"/>
            <a:ext cx="9007560" cy="5367240"/>
            <a:chOff x="31680" y="1447920"/>
            <a:chExt cx="9007560" cy="53672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2905200" y="1501920"/>
              <a:ext cx="6134040" cy="448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31680" y="2997360"/>
              <a:ext cx="4471920" cy="3817800"/>
              <a:chOff x="31680" y="2997360"/>
              <a:chExt cx="4471920" cy="3817800"/>
            </a:xfrm>
          </p:grpSpPr>
          <p:pic>
            <p:nvPicPr>
              <p:cNvPr id="2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80" y="2997360"/>
                <a:ext cx="4471920" cy="381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1562040" y="4809960"/>
                <a:ext cx="990720" cy="28116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H="1">
              <a:off x="2963520" y="2362320"/>
              <a:ext cx="1585800" cy="14097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9920" y="1684440"/>
              <a:ext cx="1592280" cy="785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60880" y="1447920"/>
              <a:ext cx="411120" cy="27468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 Open the sample EN library and check term list field link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644480" y="1631880"/>
            <a:ext cx="58359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e5ff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dit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973160" y="2028960"/>
            <a:ext cx="5077080" cy="3190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554280" y="3014640"/>
            <a:ext cx="1836720" cy="365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22229" t="-330" r="51107" b="91387"/>
          <a:stretch/>
        </p:blipFill>
        <p:spPr>
          <a:xfrm>
            <a:off x="4338720" y="295200"/>
            <a:ext cx="2681280" cy="919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400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rolled Vocabulary Fiel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"/>
          <p:cNvSpPr/>
          <p:nvPr/>
        </p:nvSpPr>
        <p:spPr>
          <a:xfrm>
            <a:off x="1709640" y="388152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ick-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61320" y="3840120"/>
            <a:ext cx="21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Thesa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65480" y="5284800"/>
            <a:ext cx="1076400" cy="111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97160" y="3532320"/>
            <a:ext cx="1076400" cy="111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062840" y="2435400"/>
            <a:ext cx="1193760" cy="10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72200" y="2673360"/>
            <a:ext cx="1193760" cy="11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058160" y="2889360"/>
            <a:ext cx="1193760" cy="11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091280" y="5484960"/>
            <a:ext cx="1193760" cy="10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070760" y="5925960"/>
            <a:ext cx="1193760" cy="11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rcRect l="22416" t="36972" r="51107" b="16566"/>
          <a:stretch/>
        </p:blipFill>
        <p:spPr>
          <a:xfrm>
            <a:off x="4307040" y="1677960"/>
            <a:ext cx="2708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y it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new record (Control-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Ref Type to “CalEDLN Projec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97160" y="4670280"/>
            <a:ext cx="6941520" cy="1569960"/>
            <a:chOff x="1397160" y="4670280"/>
            <a:chExt cx="6941520" cy="156996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397160" y="4670280"/>
              <a:ext cx="69415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484080" y="4907880"/>
              <a:ext cx="2588040" cy="7542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6840" y="642960"/>
            <a:ext cx="865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ing thesaurus keywords using the CERES Thesaurus Brow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43360" y="1197000"/>
            <a:ext cx="4824360" cy="4545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2954160" y="5032080"/>
            <a:ext cx="1040040" cy="27612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975120"/>
            <a:ext cx="18810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ighlight and copy select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" y="5950080"/>
            <a:ext cx="83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 Theme~ Watersh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428760" y="1062000"/>
            <a:ext cx="83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ucting a place keyword using Geo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Screenshot_2" descr=""/>
          <p:cNvPicPr/>
          <p:nvPr/>
        </p:nvPicPr>
        <p:blipFill>
          <a:blip r:embed="rId1"/>
          <a:stretch/>
        </p:blipFill>
        <p:spPr>
          <a:xfrm>
            <a:off x="1163520" y="1720800"/>
            <a:ext cx="6815160" cy="4316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400720" y="2563920"/>
            <a:ext cx="1366920" cy="333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23040" y="5718240"/>
            <a:ext cx="1366560" cy="333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6480" y="6272280"/>
            <a:ext cx="82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ERES Location~ calwater22:02206.40 [Sonoma Creek (hsa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siness Case for Information Manage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benefits, includ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s huma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information to be used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organization’s Curriculum vita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s questions about how to access and use the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’s mission-critical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Export records to text f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909960" y="1262160"/>
            <a:ext cx="5052600" cy="3951360"/>
            <a:chOff x="3909960" y="1262160"/>
            <a:chExt cx="5052600" cy="395136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3981240" y="1262160"/>
              <a:ext cx="4981320" cy="39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09960" y="1427400"/>
              <a:ext cx="294480" cy="15516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0960" y="2568600"/>
            <a:ext cx="43354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 &amp; 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4960" y="134424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:45-12: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"/>
          <p:cNvSpPr/>
          <p:nvPr/>
        </p:nvSpPr>
        <p:spPr>
          <a:xfrm>
            <a:off x="512640" y="3117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1960" y="4270320"/>
            <a:ext cx="8229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:00-1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510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t’s not always don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 funding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 time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Management: Making it Happen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510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ke it part of your org’s workfl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corporate into project budge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opt a method, train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 it as part of every projec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ching Up: Cataloging Legacy Resou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be the most difficult aspect to fu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esignate a libraria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ioritiz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cate sources of information about the work products – project managers, project reports, “organizational memory”, etc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it?  You are already making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– spatial data for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blin Core – good for nonspatial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EDLN - projects, people, organizations,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semantic 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North Bay Comm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ocal Library Workfl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82600"/>
            <a:ext cx="40384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-House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920" y="1879560"/>
            <a:ext cx="40384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blished Catalo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Northbay Common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3298680" y="276084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Garamond"/>
              </a:rPr>
              <a:t>Exports/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666880" y="2692440"/>
            <a:ext cx="533520" cy="38088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26161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080" y="5129280"/>
            <a:ext cx="65372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3:53:29Z</dcterms:created>
  <dc:creator>STIEFER</dc:creator>
  <dc:description/>
  <dc:language>en-US</dc:language>
  <cp:lastModifiedBy>Deanne DiPietro</cp:lastModifiedBy>
  <cp:lastPrinted>2009-04-22T19:24:48Z</cp:lastPrinted>
  <dcterms:modified xsi:type="dcterms:W3CDTF">2006-08-25T01:59:44Z</dcterms:modified>
  <cp:revision>66</cp:revision>
  <dc:subject/>
  <dc:title>Metadata 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