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EB6-E5BE-485C-879E-E888EE821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metadata for, how much do they need to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self: internal project documentation: (trail of bread crumbs to start, complete FGDC metadata for final project produ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72DF-3F4D-4D51-B2C7-DBB4CA5D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7A64-FD45-44FD-8F87-98808CF0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551C-383E-49D4-AC15-9D9C4295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25E4-B56C-42FB-8F1E-D823885D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6A33-499E-40D4-9761-36E402AB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DCD-EB4D-49D7-A212-B084556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DD19-D4AD-40BF-A0F4-99EE6A79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469A-348E-4F01-A586-DB27916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E3A-8BD7-4F37-AA2B-7A0EB363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AFA-0DDA-498D-AE04-02CAF8A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8348-4801-4741-8C54-946C984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1D65-46AF-4C79-896F-D3211E8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023B-F8AB-4102-98B8-6F49238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F0F6-55DA-42EB-95DB-D3077E0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DD8-32EC-4777-AAFA-F4EE289F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F2EB-48C9-427A-A744-8B3E4A2C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944-CF5A-4F84-AD92-43EEAC4D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935C-A30C-4E6E-9D15-5683FF6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B739-D8AC-4671-BB1E-841666C2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692F-EB8C-4F31-9CDF-8154CC31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8557-2F58-4E80-AEF7-BAFFD544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2637-A8C2-475A-82D4-0896555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037E-41E3-4F89-A7CF-5B8021A7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D5F0-6905-436D-87DC-48C8A54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9D4-B5FF-4844-8EB0-8BCD2FDEE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9DD-0901-4578-89BD-B1AD04E72C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gdc.gov/metadata/documents/MetadataQuickGuide.pdf" TargetMode="External"/><Relationship Id="rId2" Type="http://schemas.openxmlformats.org/officeDocument/2006/relationships/hyperlink" Target="http://www.fgdc.gov/metadata/documents/top10metadataerrors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eology.usgs.gov/tools/metadata/tools/doc/mp.html" TargetMode="External"/><Relationship Id="rId2" Type="http://schemas.openxmlformats.org/officeDocument/2006/relationships/hyperlink" Target="http://geology.usgs.gov/tools/metadata/tools/doc/mp.html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bios.dfg.ca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1560" y="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Garamond"/>
              </a:rPr>
              <a:t>Metadata for Geospatial Information Sourc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30080" y="2075040"/>
            <a:ext cx="7815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eography 387: Introduction to Geographic Information Sys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epartment of Geography and Global Stud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noma State Univers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evenson Hall, Room 303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ctober 29, 20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uest Speaker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t Stiefer, Digital Librarian &amp; Geograph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noma Ecology Cen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unded by the Federal Geographic Data Committee, National Spatial Data Infrastructur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ooperative Agreement Progra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270000" y="1104840"/>
            <a:ext cx="86644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Geographic Data Committee’s Content Standard for Digital Geospatial Meta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ka “CSDGM Standard” or “FGDC Standar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 Federal Metadata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widely used by non-government ent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Standar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115/19139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standard for metadata content and form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if you were creating data for publishing in the international commu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ll eventually become new US Federal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organization may use both FGDC and I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itors for both are in ArcCatalo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81160" y="1344600"/>
            <a:ext cx="86547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focus on FGDC Standard in this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ndard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rm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greement among stakeholders on the rules and criteria to be used to make consistent metadata that facilitates exchange of spatial data &amp; information among a commu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Genesis of the FGDC Standar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82296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tuation in 1994 - Abundance of federally funded GIS data and wide Internet a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se - Executive Order 12906, Coordinating Geographic Data Acquisition and Access: the National Spatial Data Infrastructure (NSD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SDI consists of the people and technology that promote nationwide sharing of geospatial information, including metadat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GDC is the interagency committee responsible for coordinating the NSDI and developing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The NSDI Initi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719080"/>
            <a:ext cx="310500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ree components of the National Spatial Data Infra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3765600" y="1430280"/>
            <a:ext cx="5378400" cy="4545000"/>
          </a:xfrm>
          <a:prstGeom prst="triangle">
            <a:avLst>
              <a:gd name="adj" fmla="val 50000"/>
            </a:avLst>
          </a:prstGeom>
          <a:solidFill>
            <a:srgbClr val="ceffea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2160" y="2081160"/>
            <a:ext cx="2149560" cy="1590840"/>
          </a:xfrm>
          <a:prstGeom prst="ellipse">
            <a:avLst/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94280" y="4519440"/>
            <a:ext cx="2149200" cy="1590840"/>
          </a:xfrm>
          <a:prstGeom prst="ellipse">
            <a:avLst/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32160" y="4759200"/>
            <a:ext cx="195444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se Mapping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15080" y="4557600"/>
            <a:ext cx="2149560" cy="1590840"/>
          </a:xfrm>
          <a:prstGeom prst="ellipse">
            <a:avLst/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62880" y="4788000"/>
            <a:ext cx="22017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ta Discovery &amp;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02400" y="2281320"/>
            <a:ext cx="15811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G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ordination &amp;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614760"/>
            <a:ext cx="219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Garamond"/>
              </a:rPr>
              <a:t>NSD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ndards Support Sha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3000240" y="2963880"/>
            <a:ext cx="1733760" cy="18111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19720" y="2371680"/>
            <a:ext cx="3595680" cy="35434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81231" t="4205" r="0" b="19230"/>
          <a:stretch/>
        </p:blipFill>
        <p:spPr>
          <a:xfrm>
            <a:off x="3517920" y="3606840"/>
            <a:ext cx="682560" cy="79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27200" y="3463920"/>
            <a:ext cx="968400" cy="104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9480" y="3616200"/>
            <a:ext cx="968400" cy="1047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31760" y="3768840"/>
            <a:ext cx="968400" cy="104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4400" y="3921120"/>
            <a:ext cx="968400" cy="104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6320" y="3978360"/>
            <a:ext cx="674640" cy="488880"/>
          </a:xfrm>
          <a:prstGeom prst="rightArrow">
            <a:avLst>
              <a:gd name="adj1" fmla="val 50000"/>
              <a:gd name="adj2" fmla="val 3449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7440" y="3997440"/>
            <a:ext cx="1040040" cy="488880"/>
          </a:xfrm>
          <a:prstGeom prst="rightArrow">
            <a:avLst>
              <a:gd name="adj1" fmla="val 50000"/>
              <a:gd name="adj2" fmla="val 53185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21480" y="3894120"/>
            <a:ext cx="2916000" cy="855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36680" y="5106960"/>
            <a:ext cx="2085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Lo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S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3440" y="4913280"/>
            <a:ext cx="208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lifornia Environmental Information Clearingh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5840" y="6024600"/>
            <a:ext cx="25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Spatial One-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GDC Metadata Standar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andard required by the US government in metadata created for its own geospatial data and for data created by its contractors since Jan. 1, 1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Federal agencies are encouraged to use FGDC standards to promote nationwide data sha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data discovery, use, and a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GDC Standar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4312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standard is extensive -- it must support a wide range of geospatial data ty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s 10 sections of required and optional compound and data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s addition of new elements to create “extensions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cation of existing elements to create a “profile” of the standard (ex: ESRI profi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2400" y="1309680"/>
            <a:ext cx="404820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RESOURCE DISCOVE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entification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tadata Ref. (7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tation (8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GEOSPATIAL DATA CHA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Quality 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atial Data Org. (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atial Reference (4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tity &amp; Attribute (5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127400" y="1776240"/>
            <a:ext cx="4772160" cy="3581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8960" y="6049800"/>
            <a:ext cx="84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ements of each section are enumerated and defined in the stand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GDC-STD-001-1998 El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2640" y="1599840"/>
            <a:ext cx="29811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ements are what you “fill in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umerated and defined in Standard docu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ndard is an exhaustive document – every detail inclu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6928"/>
          <a:stretch/>
        </p:blipFill>
        <p:spPr>
          <a:xfrm>
            <a:off x="3371760" y="1576440"/>
            <a:ext cx="57722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GDC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Implementation Assist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28920"/>
            <a:ext cx="8489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SDGM Work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user-friendly workbook to aid metadata creators in implementing the FGDC standa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des background, format requirements, element definitions, example metadata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des graphical summation of the Standard elements and related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ill highly complex documen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Objectiv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0360" y="1413000"/>
            <a:ext cx="707544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formal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cuss metadata standards and why we use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 the role of the National Spatial Data Infra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 major sections of the “FGDC standard” and discuss their el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cuss metadata best 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 value metadata holds for an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Implementation Assisst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3840" y="765000"/>
            <a:ext cx="83469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SDGM Workbook explan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26335"/>
          <a:stretch/>
        </p:blipFill>
        <p:spPr>
          <a:xfrm>
            <a:off x="1635120" y="1260360"/>
            <a:ext cx="53308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Implementation Assisst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3840" y="765000"/>
            <a:ext cx="83469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SDGM Workbook – 1-page diagram for each s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01760" y="1590840"/>
            <a:ext cx="6699240" cy="5168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24010" t="73849" r="23454" b="9132"/>
          <a:stretch/>
        </p:blipFill>
        <p:spPr>
          <a:xfrm>
            <a:off x="4659480" y="5856120"/>
            <a:ext cx="37573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3120" y="1233000"/>
            <a:ext cx="8537760" cy="53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dditional short summa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cuments from FGDC can help you get started, and work up to the Workbook and the Standar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ospatial Metadata Quick Gu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 9-page guide for writing quality metadata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fgdc.gov/metadata/documents/MetadataQuickGuide.pd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p Ten Metadata Erro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sp. useful for Section 2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fgdc.gov/metadata/documents/top10metadataerrors.pd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501480" y="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Implementation Assist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604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Metadata Edito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3760" y="884160"/>
            <a:ext cx="84898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cCatalog Editor is how most of us see the FGDC Standa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cCatalog flags the fields you need to fill out to minimally comply with the standard(red tex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-board help pops up summary for each field (?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39760" y="2158920"/>
            <a:ext cx="6810480" cy="4352760"/>
            <a:chOff x="239760" y="2158920"/>
            <a:chExt cx="6810480" cy="43527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239760" y="2206440"/>
              <a:ext cx="681048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489720" y="2158920"/>
              <a:ext cx="365040" cy="40464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566720" y="2522520"/>
              <a:ext cx="4956120" cy="279540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rcRect l="0" t="0" r="2099" b="2944"/>
          <a:stretch/>
        </p:blipFill>
        <p:spPr>
          <a:xfrm>
            <a:off x="5334120" y="3303720"/>
            <a:ext cx="362736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879560" y="1806480"/>
            <a:ext cx="6843600" cy="4329000"/>
            <a:chOff x="1879560" y="1806480"/>
            <a:chExt cx="6843600" cy="432900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1879560" y="1806480"/>
              <a:ext cx="681048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839000" y="5730840"/>
              <a:ext cx="884160" cy="40464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0400" y="984240"/>
            <a:ext cx="8489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help files within ArcCatalog metadata edi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7160" y="2238480"/>
            <a:ext cx="4519440" cy="4443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4604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Edi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Va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1040"/>
            <a:ext cx="34797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can check for metadata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p” is a utility created and maintained by the USGS for managing FGDC-compliant meta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wnload a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geology.usgs.gov/tools/metadata/tools/doc/mp.ht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114800" y="1409760"/>
            <a:ext cx="45910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Va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53960"/>
            <a:ext cx="8229600" cy="52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version of “mp” is also included in ArcCatalog, used in some imports/exports or to validate metadata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 metadata will be validated according to the FGDC Standard rules, and any warnings or errors regarding the metadata content will be repor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 ArcCatalog help files for more information on using “mp” as a valid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Va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7960" y="1265400"/>
            <a:ext cx="81075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wnload and use “mp” independent of ArcCatalo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and-line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ut file must be text or x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rors written to a text f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13081" r="23557" b="39571"/>
          <a:stretch/>
        </p:blipFill>
        <p:spPr>
          <a:xfrm>
            <a:off x="1584360" y="2843280"/>
            <a:ext cx="61452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 Brea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8:50 – 9:00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55960" y="3076560"/>
            <a:ext cx="1235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GDC Metadata Se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098360"/>
            <a:ext cx="864216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jor S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Qu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atial Data Organization – spatial data format (vector, rast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atial Reference – how data’s spatial location is enco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tity and Attribute – info about the tabular dat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tribution – how the data can be obtai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tadata Reference – who created the meta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ing Sections – appear multiple times within main s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tation – similar to a book’s ci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Period – info about dates and times of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ct – whom to contact about the data, geoprocessing steps, or distrib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is Meta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7800" y="1415880"/>
            <a:ext cx="7820280" cy="28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data is “data about dat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data can describe any information resource -- reports, spreadsheets, paper maps, databases, geospatial data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647640" y="4286160"/>
            <a:ext cx="781992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spatial data – identifies geographic location and characteristics of features on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341000" y="2120760"/>
            <a:ext cx="660708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pert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tadata style sheets and edi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ur some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rt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ArcCatalog To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6680" y="1322280"/>
            <a:ext cx="403884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herent in th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rdinate system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unding coordinat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 of recor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ed by ArcCatalog, directly from the GIS f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pdated automatically (when Tool|Options is set to do s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s not complete metadata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46440" y="1905120"/>
            <a:ext cx="4129200" cy="3773520"/>
            <a:chOff x="4546440" y="1905120"/>
            <a:chExt cx="4129200" cy="377352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rcRect l="0" t="23046" r="6374" b="0"/>
            <a:stretch/>
          </p:blipFill>
          <p:spPr>
            <a:xfrm>
              <a:off x="4546440" y="1905120"/>
              <a:ext cx="412920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640120" y="2813040"/>
              <a:ext cx="822240" cy="3510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82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manually added in FGDC Edito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tle, abstract, keywords, attribute descriptions, geoprocessing steps, sources used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22981" r="0" b="0"/>
          <a:stretch/>
        </p:blipFill>
        <p:spPr>
          <a:xfrm>
            <a:off x="371520" y="3181320"/>
            <a:ext cx="3728880" cy="3193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0" t="22981" r="0" b="0"/>
          <a:stretch/>
        </p:blipFill>
        <p:spPr>
          <a:xfrm>
            <a:off x="4786200" y="3173400"/>
            <a:ext cx="3738600" cy="3203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1680" y="3924360"/>
            <a:ext cx="822240" cy="350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8720" y="3924360"/>
            <a:ext cx="822240" cy="350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tylesheets and Edi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ylesheets display metadata elements for standard cho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itor shows only those elements which can be edit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95800" y="1600200"/>
            <a:ext cx="3143160" cy="4525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094360" y="4467240"/>
            <a:ext cx="3056040" cy="11811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rcRect l="0" t="0" r="10672" b="0"/>
          <a:stretch/>
        </p:blipFill>
        <p:spPr>
          <a:xfrm>
            <a:off x="633240" y="3289320"/>
            <a:ext cx="3573720" cy="619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4560" y="3222720"/>
            <a:ext cx="906480" cy="411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ur and Ex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Enhance Data Discovery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7440" y="1236240"/>
            <a:ext cx="8229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ximize discovery of your metadata in online catalo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keywords that are easy to think of, not just for experts in the fie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informative metadata titles (“temp.shp” or “Summer stream temperature data for Calabazas Creek, 2001 – 2002”?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keywords in more than one place -  keywords and phrases in abstract, purpose, and keyword fiel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ome Metadata Best Practices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6560" y="150984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ject planning should include time and resources for information management, including metada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metadata incrementally, start with quick notes in the abstract field, fill in more as you g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 – don’t have to do it all at once, but be sure to finish documenting final work produ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emplates to fill in repeat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someone assigned to review all final metada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How Much is Enoug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3400"/>
            <a:ext cx="841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s on audience and purpose: metadata for discovery or for us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internal project document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rganiz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resource data to be used by anyone in the organiz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li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project delive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ublic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shared in a public catalog, clearinghouse, published to an ArcIMS Metadata Service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S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bios.dfg.ca.gov/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requires the full stand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IC focuses on 3 sections of FGDC stand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07680" y="1303200"/>
            <a:ext cx="8242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s development of data through a project life cy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rves organization’s investment in data for future 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longevity - replaces human memory and allows reuse of information/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ficiency - reduces questions about how to access and use the dat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 of your organization’s Curriculum Vita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al – can help limit potential lia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data –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ome reasons why we do i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27320" y="2274840"/>
            <a:ext cx="6691320" cy="3513240"/>
          </a:xfrm>
          <a:prstGeom prst="rect">
            <a:avLst/>
          </a:prstGeom>
          <a:solidFill>
            <a:srgbClr val="0099cc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is Metadata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Component of spatial data which describes itsel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141560" y="2684520"/>
            <a:ext cx="1806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aramond"/>
              </a:rPr>
              <a:t>Spa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ere?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3360" y="2684520"/>
            <a:ext cx="1806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a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82640" y="4576680"/>
            <a:ext cx="5886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ere, What, Who, When, How, Wh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9800" y="3109680"/>
            <a:ext cx="1081080" cy="1716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582640" y="3062160"/>
            <a:ext cx="1282680" cy="174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Meta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data describes how the spatial and attribute data were collected and processed into final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data record is a proxy for the spatial data that support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iscove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u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see metadata every day in many for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ectronic note files, emai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al data dictiona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nd-written not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8400"/>
            <a:ext cx="60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Is it 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3880" y="1728720"/>
            <a:ext cx="4770720" cy="357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41680" y="2736720"/>
            <a:ext cx="4434120" cy="332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25400" y="5450040"/>
            <a:ext cx="18068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at,Wher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62240" y="863640"/>
            <a:ext cx="5854680" cy="599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247840" y="0"/>
            <a:ext cx="47260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Is it Metadat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5520" y="1676520"/>
            <a:ext cx="240012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tadata about bibliographic re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sistency: structure and content conform to rules (AACR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l geospatial metadata is specific information about data, recorded in a structured way. Metadata is part of the geospatial data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809640" y="3792600"/>
            <a:ext cx="75074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aspects are relevant? (cont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kind of format should we use? (struc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dat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8080" y="4946760"/>
            <a:ext cx="385920" cy="641160"/>
          </a:xfrm>
          <a:prstGeom prst="downArrow">
            <a:avLst>
              <a:gd name="adj1" fmla="val 50000"/>
              <a:gd name="adj2" fmla="val 41535"/>
            </a:avLst>
          </a:prstGeom>
          <a:solidFill>
            <a:srgbClr val="0099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is Metadat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Metadata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19040"/>
            <a:ext cx="82296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already use “standards” (bibliographies, VIN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etadata standard is a set of rules or specifications for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sometim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orm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metada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s enable us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sistent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scribe a data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ndardized metadata facilitates development of supporting software, such as efficient metadata edito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ndardized metadata can be efficiently shared in metadata catalogs, like the library cards turned into an online datab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3:53:29Z</dcterms:created>
  <dc:creator>STIEFER</dc:creator>
  <dc:description/>
  <dc:language>en-US</dc:language>
  <cp:lastModifiedBy>STIEFER</cp:lastModifiedBy>
  <cp:lastPrinted>2009-04-22T19:24:48Z</cp:lastPrinted>
  <dcterms:modified xsi:type="dcterms:W3CDTF">2008-10-29T13:04:33Z</dcterms:modified>
  <cp:revision>121</cp:revision>
  <dc:subject/>
  <dc:title>Metadata Trai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