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9EA1-EDFF-4692-8E4C-3E5EFBCB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FB1C-2F23-43FB-A449-FD122A9B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45A2-8A1D-45F4-A809-68BDC99E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8F68-EC70-4CCE-A563-6A53B495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4021-4CFE-48CB-8EA1-D236E9C6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B4EE-1C9A-4C72-9CC9-A1C80614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C0A4-1330-4E20-9822-A7CB5736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753-F750-4F89-BED3-8D735799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6675-AF4F-4C71-9051-8DDA491A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0505-F7ED-4072-963D-FA393DF2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929C-042C-4441-874D-AF493643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1A7D-E0A0-4484-8C5D-F365B124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4C1D-4F46-4862-9B01-44C0382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371E-05FC-40A6-A4DA-75F28717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5875-C448-4632-8B41-80237A2E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4457-5EC1-446B-B70E-E57B3AAB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F4F3-DE8F-4D00-A3AB-E34F8D00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E070-C586-4159-924C-B95E1581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AF9B-8DF4-4531-9B34-8CF41767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CED4-A5E2-48E0-AD89-7AFA03E7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1139-9EDB-4B1D-A6F7-C97F804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DD2F-BEA5-44C8-B07C-2AA67990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7409-E15B-486C-BFE7-7FA8DAFD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4A87-F643-4D27-A9CA-0D8A9B0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2F70-0165-4084-8F93-995A170423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B5EB-20D6-4283-BCFF-B080F8EAA6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talog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RES - CE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58840" y="3254400"/>
            <a:ext cx="66200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5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ing thesaurus keywords using the CERES Thesaurus Brows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6320" y="1660680"/>
            <a:ext cx="4824360" cy="454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2201760" y="5551200"/>
            <a:ext cx="1040040" cy="27612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993000" y="4130640"/>
            <a:ext cx="428400" cy="67464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" y="5675400"/>
            <a:ext cx="18813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heck sel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08880" y="4848120"/>
            <a:ext cx="1881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earch for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954080"/>
            <a:ext cx="701064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35040" y="1233360"/>
            <a:ext cx="66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ing a region using Geo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870280"/>
            <a:ext cx="82296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CERES HelpDesk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916-654-9990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alifornia Environmental Information Catalog (CEIC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, federal, and local organizations use it to share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ner in CalEDLN, a major hub on the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GDC / Dublin Core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vests many smaller sites, harvested by G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55370" t="41022" r="0" b="0"/>
          <a:stretch/>
        </p:blipFill>
        <p:spPr>
          <a:xfrm>
            <a:off x="825480" y="1106640"/>
            <a:ext cx="7491600" cy="5601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 of a CERES Catalo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alifornia Environmental Information Catalog (CEIC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ng and editing a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54440" y="2592360"/>
            <a:ext cx="520848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54360" y="2998800"/>
            <a:ext cx="1330200" cy="290520"/>
          </a:xfrm>
          <a:prstGeom prst="ellipse">
            <a:avLst/>
          </a:prstGeom>
          <a:noFill/>
          <a:ln w="38160">
            <a:solidFill>
              <a:srgbClr val="c2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ng and editing a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0640" y="2647800"/>
            <a:ext cx="6894720" cy="2671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07960" y="2846520"/>
            <a:ext cx="2157480" cy="113184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636800" y="4176360"/>
            <a:ext cx="1253880" cy="159228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320" y="2411280"/>
            <a:ext cx="15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91160" y="5684760"/>
            <a:ext cx="233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existing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ng and editing a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17520" y="2166840"/>
            <a:ext cx="6931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ng and editing a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58680" y="2452680"/>
            <a:ext cx="7442280" cy="286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71520" y="5546880"/>
            <a:ext cx="67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your existing catalog and log in with your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834840"/>
            <a:ext cx="822960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ing and editing a catalo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01600" y="1415880"/>
            <a:ext cx="6940800" cy="5442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7451280" y="2681280"/>
            <a:ext cx="428760" cy="67464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54920" y="3429000"/>
            <a:ext cx="18810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dit catalog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" y="4822920"/>
            <a:ext cx="188136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dit catalog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63680" y="4730400"/>
            <a:ext cx="1040040" cy="276120"/>
          </a:xfrm>
          <a:prstGeom prst="line">
            <a:avLst/>
          </a:prstGeom>
          <a:ln w="57240">
            <a:solidFill>
              <a:srgbClr val="c2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ES-CE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3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data entry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30400" y="1325520"/>
            <a:ext cx="59803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3:53:29Z</dcterms:created>
  <dc:creator>STIEFER</dc:creator>
  <dc:description/>
  <dc:language>en-US</dc:language>
  <cp:lastModifiedBy>D D</cp:lastModifiedBy>
  <cp:lastPrinted>2009-04-22T19:24:48Z</cp:lastPrinted>
  <dcterms:modified xsi:type="dcterms:W3CDTF">2006-10-04T00:23:44Z</dcterms:modified>
  <cp:revision>67</cp:revision>
  <dc:subject/>
  <dc:title>Metadata Trai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