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gif" ContentType="image/gif"/>
  <Override PartName="/ppt/media/image13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B49F-550B-452B-BC52-8B54D45A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89C3-BA8F-4E27-94D1-86BA855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865B-0459-417F-BDD3-64691A8E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6FB9-C834-4EEA-9311-3872BB5A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9940-9AC4-4F66-86FE-E19BBBF6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4AF3-3FF1-4893-80AA-4421DD8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9F40-B455-464F-8545-E7D5696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2149-D983-42B8-80A6-585DB383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D0B-A5CA-4211-975F-42779FF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0A36-F4D1-41B0-BD3C-306C3C0C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EFF4-DB59-4610-ABD9-FAFD8BA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9027-2BE0-4810-A50D-27DD5BE7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289-86CA-4E33-9234-692D85E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988A-C57E-4458-98F5-939F68B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540-9083-4022-9A9D-C1BE20DD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15B1-5317-40F6-A973-D0A39EA8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51D1-3200-4145-ACEC-CF453C32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4E4F-FCFC-4716-9DB7-150793A8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1560-8F4E-492D-A7E2-C8E5DBF8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3373-DE00-4CCB-987A-5B812FE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E818-C0C0-418A-8D63-5B0EC232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3FE4-1824-4006-B86D-D58DC0B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34BA-690C-4E0D-BA41-A5BF314D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0A0C-E44C-4F0A-9D53-1F3472C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985-2D49-44D3-A2D0-031CB7003F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8F3F-CBFB-4E30-A6DA-06C2644B88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onomaecologycenter.org/Resources_prj/SEC_catalog.htm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orthbaycommons.net/northbay-data-catalog/data-archive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training.esri.com/gateway/index.cfm?fa=main.home" TargetMode="External"/><Relationship Id="rId2" Type="http://schemas.openxmlformats.org/officeDocument/2006/relationships/hyperlink" Target="http://webhelp.esri.com/arcgisdesktop/9.1/index.cfm?TopicName=welcome" TargetMode="External"/><Relationship Id="rId3" Type="http://schemas.openxmlformats.org/officeDocument/2006/relationships/hyperlink" Target="http://www.fgdc.gov/" TargetMode="External"/><Relationship Id="rId4" Type="http://schemas.openxmlformats.org/officeDocument/2006/relationships/hyperlink" Target="http://gos2.geodata.gov/wps/portal/gos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gdc.gov/metadata/metadata-business-cas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904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art 2 - Documenting and Sharing Spatial Data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8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manually added in FGDC Edito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tle, abstract, keywords, attribute description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22981" r="0" b="0"/>
          <a:stretch/>
        </p:blipFill>
        <p:spPr>
          <a:xfrm>
            <a:off x="371520" y="3181320"/>
            <a:ext cx="3728880" cy="319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22981" r="0" b="0"/>
          <a:stretch/>
        </p:blipFill>
        <p:spPr>
          <a:xfrm>
            <a:off x="4786200" y="3173400"/>
            <a:ext cx="3738600" cy="3203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1680" y="3924360"/>
            <a:ext cx="822240" cy="350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8720" y="3924360"/>
            <a:ext cx="822240" cy="350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herent in th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ordinate system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unding coordin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 ty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d by ArcCatalog automatical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dated automatic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46440" y="1905120"/>
            <a:ext cx="4129200" cy="3773520"/>
            <a:chOff x="4546440" y="1905120"/>
            <a:chExt cx="4129200" cy="37735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rcRect l="0" t="23046" r="6374" b="0"/>
            <a:stretch/>
          </p:blipFill>
          <p:spPr>
            <a:xfrm>
              <a:off x="4546440" y="1905120"/>
              <a:ext cx="412920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40120" y="2813040"/>
              <a:ext cx="822240" cy="3510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ylesheets and Edi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ylesheets display metadata el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itor shows only those which can be edit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95800" y="1600200"/>
            <a:ext cx="314316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94360" y="4467240"/>
            <a:ext cx="3056040" cy="11811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10672" b="0"/>
          <a:stretch/>
        </p:blipFill>
        <p:spPr>
          <a:xfrm>
            <a:off x="642960" y="2936880"/>
            <a:ext cx="3573360" cy="619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11200" y="2911320"/>
            <a:ext cx="906480" cy="4114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en ArcCatalog for the To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connection to Spatial Data folder on desk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FGDC ESRI styleshee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Arundo shapefile in Catalog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ick Metadata Tab on r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ption tab (documenta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atial (properti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ributes (mostly properti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 metadata edi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in context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tting Up a Workfl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Me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ons | Metadata:  Select FGDC Editor, and turn off automatic upd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ons | File Types: Add XML as new file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king the Meta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:30 – 3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Templ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6840" y="1988640"/>
            <a:ext cx="7072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dite repeated data en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 documentation and exclude proper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off automatic updates when making templ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king a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 new shapefile (any name, accept defaults, select a coordinate syst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ort its metadata to new XML file, called MyOrg_MyName.XML (refresh view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XML with metadata edi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data that will often be repeated (contact info, distribution info, access constraint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automatic update back 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ing the Templ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vigate to a Arundo shapefile, with existing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n automatic updates back 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 your template metadata, what happened? you will overwrite any existing documentation, so importing metadata from template is first step after you create a GIS data s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vigate to “Railroad Stations”, import agai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te rest of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ting the 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rows of tabs in FGDC edi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local references to location of data if you w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tity Attribute – chance to explain fieldname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help-in-context tool; required fields in re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out metadata examples for t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tial data cataloging and docum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:45 – 2: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saurus Nam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eywor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09840"/>
            <a:ext cx="822960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 19115 Topic Catego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 and Conserv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RES T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ce Keyw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95480" y="25779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RES Geofi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N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e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08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ernal files with more meta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ual copy is made of enclosed 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can open enclosed file with double-cl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21200" y="1992240"/>
            <a:ext cx="4916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8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cCatalog Search Tool Dem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data for Non-Spatial 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3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ing non-spatial data (mxd,, tables, folders, tools, scripts, text files, VB code, model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you want it found in a search? Make some meta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68560" y="3092400"/>
            <a:ext cx="31161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:30 – 3: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80000" y="3114720"/>
            <a:ext cx="1234800" cy="160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33560" y="2741760"/>
            <a:ext cx="1235160" cy="1603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62520" y="4105440"/>
            <a:ext cx="1234800" cy="1603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487840" y="3467160"/>
            <a:ext cx="1235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ing Your Spatial Meta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7306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load to CE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rt as FGDC XML to a meaningful n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n to CERES Test Library (pswd=te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load and ed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haring Your Project Descriptions (from EndNote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1203480" y="1405080"/>
            <a:ext cx="11858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8440" y="1414440"/>
            <a:ext cx="1789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6978" r="3774" b="4070"/>
          <a:stretch/>
        </p:blipFill>
        <p:spPr>
          <a:xfrm>
            <a:off x="216000" y="216864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386240" y="2154240"/>
            <a:ext cx="4662360" cy="45705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554200" y="1461960"/>
            <a:ext cx="3192120" cy="434880"/>
            <a:chOff x="2554200" y="1461960"/>
            <a:chExt cx="3192120" cy="434880"/>
          </a:xfrm>
        </p:grpSpPr>
        <p:sp>
          <p:nvSpPr>
            <p:cNvPr id="194" name=""/>
            <p:cNvSpPr/>
            <p:nvPr/>
          </p:nvSpPr>
          <p:spPr>
            <a:xfrm>
              <a:off x="2554200" y="1461960"/>
              <a:ext cx="3192120" cy="434880"/>
            </a:xfrm>
            <a:prstGeom prst="rightArrow">
              <a:avLst>
                <a:gd name="adj1" fmla="val 50000"/>
                <a:gd name="adj2" fmla="val 1835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5320" y="1490400"/>
              <a:ext cx="220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is translated 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senting Your Catalog(s)             on Your Websi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Example: Sonoma Ecology Center’s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o share your 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Information Section in CE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 for downl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instructions for ord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d Space for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North Bay Commons Data Arch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tial Metadata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7600" y="1600200"/>
            <a:ext cx="72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covery and A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o, what, where, w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discovery purpo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ailed information about the data’s lineage, attributes, methods used to create it, limitations, and intended u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GDC Content Standard for Spatial Meta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eeping Local and Public Libraries in Syn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ta Organization: GIS Data Libr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5002" r="41098" b="41473"/>
          <a:stretch/>
        </p:blipFill>
        <p:spPr>
          <a:xfrm>
            <a:off x="272880" y="1405080"/>
            <a:ext cx="85982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ta Organization: Non-spatial Data Libr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15519" r="61246" b="38849"/>
          <a:stretch/>
        </p:blipFill>
        <p:spPr>
          <a:xfrm>
            <a:off x="1512720" y="1454040"/>
            <a:ext cx="61185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zing Project Worksp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23598" r="71674" b="39483"/>
          <a:stretch/>
        </p:blipFill>
        <p:spPr>
          <a:xfrm>
            <a:off x="2271600" y="1908000"/>
            <a:ext cx="45990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ining Others in Your Organiz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6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wn-ba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me f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ting access permis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le Structures we have tri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ources fo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ESR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rtual Camp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GIS Desktop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ArcG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sktop Help On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FGD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ebs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G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Geospatial One-Stop) webs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 and answ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:00 – 4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It’s So Importa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ects your most valuable asset from lo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swers questions about how to access and use the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lps prevent misinterpretation of the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421000" y="137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It’s So Importa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your GIS shop run efficient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or environmental organizations to serve their mission more competently, help each other bet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liability by clarifying origin and limitations of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ves time and mo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 also FGDC’s “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Business Case for Metadat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SDI Initi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719080"/>
            <a:ext cx="310500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ree components of the National Spatial Data Infra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3765600" y="1430280"/>
            <a:ext cx="5378400" cy="4545000"/>
          </a:xfrm>
          <a:prstGeom prst="triangle">
            <a:avLst>
              <a:gd name="adj" fmla="val 50000"/>
            </a:avLst>
          </a:prstGeom>
          <a:solidFill>
            <a:srgbClr val="ceffea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02160" y="2081160"/>
            <a:ext cx="2149560" cy="1590840"/>
          </a:xfrm>
          <a:prstGeom prst="ellipse">
            <a:avLst/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94280" y="4519440"/>
            <a:ext cx="2149200" cy="1590840"/>
          </a:xfrm>
          <a:prstGeom prst="ellipse">
            <a:avLst/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32160" y="4759200"/>
            <a:ext cx="195444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se Mapping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15080" y="4557600"/>
            <a:ext cx="2149560" cy="1590840"/>
          </a:xfrm>
          <a:prstGeom prst="ellipse">
            <a:avLst/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62880" y="4788000"/>
            <a:ext cx="22017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ta Discovery &amp;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02400" y="2281320"/>
            <a:ext cx="15811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G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ordination &amp;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614760"/>
            <a:ext cx="219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Garamond"/>
              </a:rPr>
              <a:t>NSD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e Record Does It 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000240" y="2963880"/>
            <a:ext cx="1733760" cy="18111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19720" y="2371680"/>
            <a:ext cx="3595680" cy="35434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81231" t="4205" r="0" b="19230"/>
          <a:stretch/>
        </p:blipFill>
        <p:spPr>
          <a:xfrm>
            <a:off x="3517920" y="3606840"/>
            <a:ext cx="682560" cy="795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27200" y="3463920"/>
            <a:ext cx="968400" cy="104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9480" y="3616200"/>
            <a:ext cx="968400" cy="1047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1760" y="3768840"/>
            <a:ext cx="968400" cy="104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4400" y="3921120"/>
            <a:ext cx="968400" cy="104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6320" y="3978360"/>
            <a:ext cx="674640" cy="488880"/>
          </a:xfrm>
          <a:prstGeom prst="rightArrow">
            <a:avLst>
              <a:gd name="adj1" fmla="val 50000"/>
              <a:gd name="adj2" fmla="val 3449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27440" y="3997440"/>
            <a:ext cx="1040040" cy="488880"/>
          </a:xfrm>
          <a:prstGeom prst="rightArrow">
            <a:avLst>
              <a:gd name="adj1" fmla="val 50000"/>
              <a:gd name="adj2" fmla="val 53185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21480" y="3894120"/>
            <a:ext cx="2916000" cy="85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6680" y="5106960"/>
            <a:ext cx="20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Local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3440" y="49132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5840" y="6024600"/>
            <a:ext cx="25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Spatial One-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cCatalog To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:00 – 2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ey Metadata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7796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ocumen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per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tadata style sheets and edito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3:53:29Z</dcterms:created>
  <dc:creator>STIEFER</dc:creator>
  <dc:description/>
  <dc:language>en-US</dc:language>
  <cp:lastModifiedBy>Deanne DiPietro</cp:lastModifiedBy>
  <dcterms:modified xsi:type="dcterms:W3CDTF">2006-08-25T01:59:22Z</dcterms:modified>
  <cp:revision>61</cp:revision>
  <dc:subject/>
  <dc:title>Metadata Trai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