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240" y="555480"/>
            <a:ext cx="86076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336240"/>
            <a:ext cx="86090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The United States Thoroughfare, Landmark and Postal Address Data Standard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1240" y="2101680"/>
            <a:ext cx="86090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ubmitted for Review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FGDC Standards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By URISA Interna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February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resented b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URISA Address Standard Working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Martha  McCart Wells, Ed Wells, Carl Anderson, Sara Yurman, Hilary Perkin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art Seven: Appendices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12880" y="1976400"/>
            <a:ext cx="8609040" cy="53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1   Appendix A (Normative): Normative XS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7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2   Appendix B (Informative):Address XML Examples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4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   Appendix C (Informative): Table of Elem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onship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4   Appendix D (Informative): Relationship of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es to Transportation Features and Linea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ference Locat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5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5   Appendix E (Informative): Element Measure Index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6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6   Appendix F (Informative): Attribute Measure Index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6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7   Appendix G (Informative): Classification Measur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x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8   Appendix H (Informative): Quality Measur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Data Quality Repor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9   Appendix I (Informative): Compatibility of th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 Standard with the FGDC Geographic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Framework Data Content Standar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NDSI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tandard Development Proces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0960" y="1925280"/>
            <a:ext cx="860904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-root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afts circulated through URISA Web Site (over 400 comments received on these draft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40 presentations of Standard in progress (URISA, NSGIC, NENA, state, regional, and national conferences, GSDI and ISO internationall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webinars presented through UR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Wiki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500 people signed up to view and comment on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conferences, emails and conversations with practitio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56160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oordination with Other Standard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Refere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GDC Standards Referenc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GDC Metadat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GDC Framework Standard (especially Base Part, Cadastral and Transpor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 - F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PS Publication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NA Next Generation 911 Address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, GML,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25 other standards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ings with other Standards bod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NA, USPS, ISO, FGDC Subcommittees and Standards Maintenanc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rofiles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ofiles of the standard to coordinate with specific use case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with Postal Service to coordinate USPS Publication 28 and UPU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ed with NENA to update their address standard and coordinate profiles to manage emergency address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iles both extend and restrict the ways in which the standard is applied to these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56160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Benefits of an Address Data Standar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es are the most commonly used and well-known identifier of the location of people, places and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d, maintained and used by virtually all local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share and manage address data is a critical need for all levels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value to the geospatia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 versions already in use, and adopted by some states and local govern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One Standard, Four Par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Data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Data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Data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Data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on previous dra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SA petitioned FGDC for the opportunity to develop this standard.  Granted in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SA Address Standard Working Group prepared this standard with the help of address creators and managers throughout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, community-based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Table of Content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3000" indent="-31716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Introduc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1 The Need for a Comprehensive Addres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tandar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2 Objectiv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3 Benefits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4 Sco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5 Applicabil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6 Related Standar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1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7 Standards development procedur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2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8 Maintenance author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9 Acronyms Used in the Standar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2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46360" indent="-281520">
              <a:lnSpc>
                <a:spcPct val="93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10 Trademark Acknowledgem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2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art Two:  Data Conten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1 Intro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2 Address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 Address Reference Syste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4 Address Attribut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56160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art Three: Address Data Classific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Intro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Address Clas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 Abstract Address Feature Clas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ddress Colle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art Four: Address Data Qualit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0960" y="186372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Intro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Anomalies: Uncertaint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ddress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 Measuring Address Quality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4 Applying Measures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ains of Valu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 How to use the Meas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Quality Control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6 About Nodes for Quality Contr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7 Quality Measur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61600"/>
            <a:ext cx="86090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art Five: Address Data Exchange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 Introd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Structure of a Transfer Packag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 The Address Standard XS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Model (see Part 7.1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x A for the complet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SD document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599760"/>
            <a:ext cx="860904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art Six: References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9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1 Standards and Specific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2 Other Works Consul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ha Wells</dc:creator>
  <dc:description/>
  <dc:language>en-US</dc:language>
  <cp:lastModifiedBy>VMware</cp:lastModifiedBy>
  <dcterms:modified xsi:type="dcterms:W3CDTF">2010-02-19T03:49:33Z</dcterms:modified>
  <cp:revision>4</cp:revision>
  <dc:subject/>
  <dc:title>The United States Thoroughfare, Landmark and Postal Address Data Standard</dc:title>
</cp:coreProperties>
</file>